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009B-449A-4B4C-A242-52C26E626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5EB7-6717-497B-83CD-1D6683930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solidate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10 </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7438-79CA-49F1-845A-48A0DB113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71E9-8809-4066-BC33-74FE25E3F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experience intelligent actions and consider how these support shared leadersh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44A6F-BC10-4DAF-8E8D-E375F1A67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7278-F1F6-4DCC-9889-06EEA53FB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14029-519D-4D87-8CBC-E410CB696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DF82D-5C85-42A0-824D-87F82FC70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30196-D3D5-41F8-92C2-C19FC4D2C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E7C99-8996-4FB9-AFF2-E452944C6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6FE9B-DBE8-4229-9F68-35317E98A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D84DC-313C-405B-8468-8E54AB29A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F9B41-6291-4671-8FB6-6C9E585EC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D99C29-8536-4BE7-99D7-78C0C9B36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A6673-C787-4E9A-92F4-D9789AAAB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8AE97-7497-4800-A285-B572942D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8DEF-8A74-414C-8587-DB13BA422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EB4BF-75FD-4B47-A148-26DCF370E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AE95E-16A0-4BCB-A8CA-A2FE62B8D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B4F17-A691-4D42-8674-16DA37E3E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3B8B4-5AB6-48B9-86C9-47E396E96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817B-C025-4D5D-A186-F6C32CC50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F9ED-9B36-493D-A9F8-4F64CF3BF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EAA51-D380-4BBC-BD5A-2A9BD7ABD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F79E-840C-4BCB-8D22-CB66CA0E2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7E7F-71D7-4CAA-986F-E58D2616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E2F3-B874-4B99-B2D3-D2408FD9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8C709-20DD-452E-9E8E-2792EAD3E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55DD-B9AB-40D9-8C2B-04F76EEFC7B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CD99-EE7B-43E8-8772-1A5361B501F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mailto:connie.quadrini@ycdsb.ca" TargetMode="External"/><Relationship Id="rId2" Type="http://schemas.openxmlformats.org/officeDocument/2006/relationships/hyperlink" Target="mailto:shelley.yearley@tldsb.on.ca"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8000" y="2895120"/>
            <a:ext cx="4608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Next Steps</a:t>
            </a:r>
            <a:endParaRPr b="0" lang="en-US" sz="4400" spc="-1" strike="noStrike">
              <a:solidFill>
                <a:srgbClr val="0d469b"/>
              </a:solidFill>
              <a:latin typeface="Arial"/>
            </a:endParaRPr>
          </a:p>
        </p:txBody>
      </p:sp>
      <p:sp>
        <p:nvSpPr>
          <p:cNvPr id="101" name="PlaceHolder 2"/>
          <p:cNvSpPr>
            <a:spLocks noGrp="1"/>
          </p:cNvSpPr>
          <p:nvPr>
            <p:ph/>
          </p:nvPr>
        </p:nvSpPr>
        <p:spPr>
          <a:xfrm>
            <a:off x="3348000" y="5010120"/>
            <a:ext cx="4608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wing Leadership</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fessional learning trajectories grow leadership and support the achievement of short and long term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91920"/>
            <a:ext cx="822960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wing Leadership</a:t>
            </a: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n organizer:  Within your board</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orking well</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challenge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blem Solving:  How can we resolve this?  How do these suggestions link to leadership frameworks seen</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ass Model</a:t>
            </a:r>
            <a:endParaRPr b="0" lang="en-US" sz="4400" spc="-1" strike="noStrike">
              <a:solidFill>
                <a:srgbClr val="0d469b"/>
              </a:solidFill>
              <a:latin typeface="Arial"/>
            </a:endParaRPr>
          </a:p>
        </p:txBody>
      </p:sp>
      <p:pic>
        <p:nvPicPr>
          <p:cNvPr id="108" name="Picture 2" descr=""/>
          <p:cNvPicPr/>
          <p:nvPr/>
        </p:nvPicPr>
        <p:blipFill>
          <a:blip r:embed="rId1"/>
          <a:stretch/>
        </p:blipFill>
        <p:spPr>
          <a:xfrm>
            <a:off x="457200" y="2084400"/>
            <a:ext cx="8229600" cy="4365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75920"/>
            <a:ext cx="8229600" cy="86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eedback</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complete the feedback form provided</a:t>
            </a:r>
            <a:endParaRPr b="0" lang="en-US" sz="2400" spc="-1" strike="noStrike">
              <a:solidFill>
                <a:srgbClr val="000000"/>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ie Quadrini</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onnie.quadrini@ycdsb.ca</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endParaRPr b="0" lang="en-US" sz="2400" spc="-1" strike="noStrike">
              <a:solidFill>
                <a:srgbClr val="000000"/>
              </a:solidFill>
              <a:latin typeface="Arial"/>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shelley.yearley@tldsb.on.c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03Z</dcterms:modified>
  <cp:revision>134</cp:revision>
  <dc:subject/>
  <dc:title>Slide 1</dc:title>
</cp:coreProperties>
</file>